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09E-FBEA-4E9F-82D4-015FBF0F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76520" y="438552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C88-B9FB-4262-B567-B4750269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708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355-C65D-49D6-BDC1-1567C0DF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9824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032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7652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9824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032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FEF-9D31-4AA4-8CB6-DF2E819A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0445-1E86-423A-8B3B-87E95778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EABD-BAA3-4F23-8661-BE2C3534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2C36-0CDE-4173-9E65-AED793F5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B7A3-0F47-41D9-A60C-5C2FF03A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6323-E2BD-4DED-A7C4-9FB2BDFA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5331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A259-2F57-45C5-A976-91B08E88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4BC7-6B30-4CDB-B5B2-C9C512AD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656-3097-4108-A250-494A682C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708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697C-E2E7-4E43-8C7A-3E94E64C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6894-AADA-4F9E-AB9D-49DF5666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6520" y="438552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B2D8-9E27-4866-A31D-43656AEC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708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C5C4-FC57-4523-847C-FC96454B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9824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032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7652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9824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032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4CC2-FCB8-4BAB-9C8D-03A94E4D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C93-C11B-4CD8-985B-E94A4828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863-79CB-424E-A031-F9A407F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DC3-03B7-4E0D-864F-1A92A0A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5331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F9D-FCC3-4C28-AED7-0BD1824A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839-D820-47D2-ADBE-F2644E5C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4708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62F-AE00-4FA7-A74E-A8336888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CC2-F4FA-4BDC-A406-48AB95C6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9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b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b95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b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b95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b9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4280" y="6248520"/>
            <a:ext cx="1757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b95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5B19-CD71-46EA-B7CE-E0413AB5ABAE}" type="datetime">
              <a:rPr b="0" lang="en-US" sz="1400" spc="-1" strike="noStrike">
                <a:solidFill>
                  <a:srgbClr val="00b957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1760" y="6248520"/>
            <a:ext cx="26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b95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95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1560" y="6248520"/>
            <a:ext cx="1757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b95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55B6-53C0-4AFC-AB84-F967FF57E1DD}" type="slidenum">
              <a:rPr b="0" lang="en-US" sz="1400" spc="-1" strike="noStrike">
                <a:solidFill>
                  <a:srgbClr val="00b95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858960" y="1701720"/>
            <a:ext cx="10875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177768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9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2CA9-3648-4948-AC63-112388AB884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BD2F-ADE3-4C57-9996-3471A6EA6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95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b9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95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b95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95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b95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95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95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95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2057400"/>
            <a:ext cx="6095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n The Days of the Judges –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li and Samuel</a:t>
            </a:r>
            <a:endParaRPr b="0" lang="en-US" sz="4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92480" y="4686480"/>
            <a:ext cx="586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957"/>
                </a:solidFill>
                <a:latin typeface="Arial"/>
              </a:rPr>
              <a:t>Quarter 3; Lesson 17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957"/>
                </a:solidFill>
                <a:latin typeface="Arial"/>
              </a:rPr>
              <a:t>1 Samuel 1-3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957"/>
                </a:solidFill>
                <a:latin typeface="Arial"/>
              </a:rPr>
              <a:t>Pages 104-109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oming soon…</a:t>
            </a: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ilistines defeats Isra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rk captured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death of Eli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ilistines have problems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1981080"/>
            <a:ext cx="70102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Eli And Samuel</a:t>
            </a: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t Two Judges: Eli &amp; Samu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ir Enemy: The Philistines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116920" y="152280"/>
            <a:ext cx="102708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7080" y="38052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957"/>
                </a:solidFill>
                <a:latin typeface="Arial"/>
              </a:rPr>
              <a:t>Setting –</a:t>
            </a:r>
            <a:br>
              <a:rPr sz="4000"/>
            </a:br>
            <a:r>
              <a:rPr b="0" lang="en-US" sz="4000" spc="-1" strike="noStrike">
                <a:solidFill>
                  <a:srgbClr val="00b957"/>
                </a:solidFill>
                <a:latin typeface="Arial"/>
              </a:rPr>
              <a:t>1 Sam. 1:1-18</a:t>
            </a:r>
            <a:endParaRPr b="0" lang="en-US" sz="40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-ka’nah – tribe of Levi, from Hill Country of Ephraim  v1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Wives: Hannah &amp; Pe-nin’nah  v2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ninah had children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nnah was barren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mily went to Shiloh yearly to worship  v3-8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nah prayed for a son and made a vow  v9-11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i, the high priest, saw her praying  v12-16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i blessed her and said God would answer her petition  v17-18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uel (“asked of God”) was born  v19-20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1828800"/>
            <a:ext cx="3276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4887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957"/>
                </a:solidFill>
                <a:latin typeface="Arial"/>
              </a:rPr>
              <a:t>Samuel Is Given To God</a:t>
            </a: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1600" y="1676520"/>
            <a:ext cx="1069920" cy="193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411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i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133720" y="2133360"/>
            <a:ext cx="18288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464832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743200" y="4389480"/>
            <a:ext cx="3657600" cy="2468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33720" y="4648320"/>
            <a:ext cx="53316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amuel Is Given To God –</a:t>
            </a: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 Samuel 1:21-28; 2:1-11; 18-21; 26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uel not given until he was weaned  21-23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n, Hannah gave him to the Lord’s service  v24-28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nnah thanked God for having blessed her  v1-11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uel helped around the tabernacle  v18-19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i blessed Elkanah &amp; Hannah  v20-21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uel grew and had favor with God  v26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1447920"/>
            <a:ext cx="71629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The Wickedness of Eli’s Sons -</a:t>
            </a: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 Sam. 2:12-25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i was both high priest and judge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 sons, Hoph’ni &amp; Phin’e-has, were evil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12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verted the sacrificial process  v13-16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ok meat BEFORE it was cooked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tted fornication  v22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i rebuked them but they rejected his words, and he did not remove them from office  v23-25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447920"/>
            <a:ext cx="72388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A Man of God Reproves Eli –</a:t>
            </a: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 Sam. 2:27-36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ve questions to Eli: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d I choose your family in Egypt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d I choose HIM to be my priest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d I give you offerings of Israel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you “kicking” at mine offerings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you honoring your sons over me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447920"/>
            <a:ext cx="72388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A Man of God Reproves Eli –</a:t>
            </a: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 Sam. 2:27-36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fore,…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 will cut off you and your house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will not be  an old man in your house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r heart will grieve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r two sons will die the same day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raise me up a faithful priest”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 will build him a sure house”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 shall walk before mine anointed for ever” *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447920"/>
            <a:ext cx="72388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God Calls Samuel –</a:t>
            </a:r>
            <a:br>
              <a:rPr sz="40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1 Sam. 3:1-21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 is still a child (very young)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v1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d called Samuel  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voice in the night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2-10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uel saw a vision  v15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Message: Punishment to Eli and his sons  v11-14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i learned his fate and accepted the Lord’s judgment as good and just  v16-18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muel grew, Lord was with him, and he was established a prophet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19-2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447920"/>
            <a:ext cx="73915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8:08:46Z</dcterms:created>
  <dc:creator>Terry W. Benton</dc:creator>
  <dc:description/>
  <dc:language>en-US</dc:language>
  <cp:lastModifiedBy>Frank D Vines</cp:lastModifiedBy>
  <dcterms:modified xsi:type="dcterms:W3CDTF">2005-03-06T14:28:27Z</dcterms:modified>
  <cp:revision>16</cp:revision>
  <dc:subject/>
  <dc:title>In The Days of the Judges</dc:title>
</cp:coreProperties>
</file>